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022-2DD2-4EA6-9D83-C6CF23F5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D91-753A-4B3F-B373-C5F2E8A5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D71-3FB8-40F2-9E79-97C4654C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489-E288-4F0A-A7A3-52046337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28B-5F63-4CD1-B0D6-9005DBD5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1082-2919-49DE-9B48-BD5CBAD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C5C-85D7-4A97-A815-3135A94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0279-2D75-429F-B556-246C83D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F95-FC52-401D-919F-38C19D29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EAA-D81A-4AB7-A2BE-E3C28E97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77F5-10F3-4F66-8090-076C0D0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B20-A1FF-43E7-B00E-3900003E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B2FA-9EF1-4BBA-825C-DF79D34E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F02-2B92-43FF-ACA6-2E855B7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27D-BA51-4301-B406-20D57F1F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AC33-DBFC-4CB2-B100-B3A4A95E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12A-2BAA-4722-B735-A7E60552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5A2-7C6B-4A7E-B96B-D5B9EF0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807-46CD-472E-AD27-BFC5E15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147-4BBD-45B3-9178-0F80646E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ABD-6896-42E4-86C7-DE864AB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944-6285-4B73-B567-F34553C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E39-9CCB-47AB-92F5-9FADEC9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C34-1341-4A9E-810B-AF5BA64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638-1914-47B5-A21E-CBF0D9EC17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ED8-2DFA-498F-BEB9-6F5FAC1435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ripps.edu/mem/ayagi/mit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which of the following types of cells do you think you would find more mitochondria: fat cells, muscle cells, or red blood cells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you think both plants and animals have mitochondria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or why not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4038480" y="50292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63" h="21600">
                <a:moveTo>
                  <a:pt x="1163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63" h="21600">
                <a:moveTo>
                  <a:pt x="9055" y="8224"/>
                </a:moveTo>
                <a:lnTo>
                  <a:pt x="12920" y="8224"/>
                </a:lnTo>
                <a:lnTo>
                  <a:pt x="12920" y="15221"/>
                </a:lnTo>
                <a:lnTo>
                  <a:pt x="14208" y="15221"/>
                </a:lnTo>
                <a:lnTo>
                  <a:pt x="14208" y="16144"/>
                </a:lnTo>
                <a:lnTo>
                  <a:pt x="9055" y="16144"/>
                </a:lnTo>
                <a:lnTo>
                  <a:pt x="9055" y="15221"/>
                </a:lnTo>
                <a:lnTo>
                  <a:pt x="10344" y="15221"/>
                </a:lnTo>
                <a:lnTo>
                  <a:pt x="10344" y="9129"/>
                </a:lnTo>
                <a:lnTo>
                  <a:pt x="9055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5:41Z</dcterms:created>
  <dc:creator>PritchaJ</dc:creator>
  <dc:description/>
  <dc:language>en-US</dc:language>
  <cp:lastModifiedBy>PritchaJ</cp:lastModifiedBy>
  <dcterms:modified xsi:type="dcterms:W3CDTF">2011-06-01T15:17:44Z</dcterms:modified>
  <cp:revision>1</cp:revision>
  <dc:subject/>
  <dc:title>Slide 1</dc:title>
</cp:coreProperties>
</file>